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1F99-F035-4BEC-AC25-236FA98A5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DE2E-179C-43ED-91AF-9D40B69B4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863-6002-4BA1-BBD1-DE8F3D68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095-69B6-460F-9FDA-7D04E054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C90-6CA6-4AD5-9F3F-757F10DD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412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9140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412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9140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9BF-671D-4DF8-8280-A69C7F98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7AE-91A9-41DA-A4FA-71E28392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36F-77CB-461D-8F1E-E9D568F6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26C-E142-47FD-847E-0481549D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C64-D993-48B2-8CF9-F68DE564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896400"/>
            <a:ext cx="670572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70F-56A5-4C0C-A44F-AE2954CC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244-9576-4B73-8C96-D22C1357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8A4-2D82-4233-BBCC-E1B3FED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BEE-E84D-4A47-8224-25E7B5F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C489-9BF5-4FFF-8C0B-0FE683F04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9067680" cy="6705720"/>
            <a:chOff x="0" y="0"/>
            <a:chExt cx="9067680" cy="6705720"/>
          </a:xfrm>
        </p:grpSpPr>
        <p:pic>
          <p:nvPicPr>
            <p:cNvPr id="6" name="Picture 7" descr="MS3 copy"/>
            <p:cNvPicPr/>
            <p:nvPr/>
          </p:nvPicPr>
          <p:blipFill>
            <a:blip r:embed="rId2">
              <a:grayscl/>
              <a:lum bright="20000"/>
            </a:blip>
            <a:stretch/>
          </p:blipFill>
          <p:spPr>
            <a:xfrm>
              <a:off x="0" y="0"/>
              <a:ext cx="72388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" descr="MS2 copy"/>
            <p:cNvPicPr/>
            <p:nvPr/>
          </p:nvPicPr>
          <p:blipFill>
            <a:blip r:embed="rId3"/>
            <a:stretch/>
          </p:blipFill>
          <p:spPr>
            <a:xfrm>
              <a:off x="7300800" y="76320"/>
              <a:ext cx="1766880" cy="662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steward1/home/KovachL/POGIL/Matter,%20nuclear%20reactions.docx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68400"/>
            <a:ext cx="693432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for Biology and 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6520" y="30481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Greenlee,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lie Kovach,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ward School, Richmond, 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ogo steward.gif"/>
          <p:cNvPicPr/>
          <p:nvPr/>
        </p:nvPicPr>
        <p:blipFill>
          <a:blip r:embed="rId1"/>
          <a:srcRect l="30612" t="0" r="30083" b="22229"/>
          <a:stretch/>
        </p:blipFill>
        <p:spPr>
          <a:xfrm>
            <a:off x="2997360" y="4724280"/>
            <a:ext cx="1295280" cy="10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y Lear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28954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involves the thinking, reading, writing, or research that gives meaning to hands-on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propose issues or problems; probe, collect, and analyze data; draw conclusions; and ask new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i216.photobucket.com/albums/cc173/celticlass188/question_mark.jpg"/>
          <p:cNvPicPr/>
          <p:nvPr/>
        </p:nvPicPr>
        <p:blipFill>
          <a:blip r:embed="rId1"/>
          <a:stretch/>
        </p:blipFill>
        <p:spPr>
          <a:xfrm>
            <a:off x="4940280" y="838080"/>
            <a:ext cx="1981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70572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Features of Inquiry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15238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begin with a question that can be answered in a scientific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rely on evidence in attempting to answer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form an explanation to answer the question based on evidence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valuate thei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communicate and justify their proposed expla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ed from the National Science Edu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240" y="762120"/>
            <a:ext cx="670536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240" y="16002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vestigate a question posed by the teacher using student designed or selected procedur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www.masternewmedia.org/images/students_experimenting_419554_88258128_350.jpg"/>
          <p:cNvPicPr/>
          <p:nvPr/>
        </p:nvPicPr>
        <p:blipFill>
          <a:blip r:embed="rId1"/>
          <a:stretch/>
        </p:blipFill>
        <p:spPr>
          <a:xfrm>
            <a:off x="1905120" y="3276720"/>
            <a:ext cx="33336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Inqui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828440"/>
            <a:ext cx="6858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raditional activities to inquiry or guided inqui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“let go” of som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pent is not necessarily increased over tradition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still perform well on standardized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896760"/>
            <a:ext cx="6705720" cy="12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Activit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d Inquiry Activit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437920"/>
            <a:ext cx="67057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clear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wling f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7521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Levels of Inquiry http://edweb.sdsu.edu/wip/four_level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G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ogil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in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., American Chemical Society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undations of Chemistry, Applying POGIL Princi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., Pacific Crest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670536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 for Com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://people.uleth.ca/~em.pijlzieber/brainh.gif"/>
          <p:cNvPicPr/>
          <p:nvPr/>
        </p:nvPicPr>
        <p:blipFill>
          <a:blip r:embed="rId1"/>
          <a:stretch/>
        </p:blipFill>
        <p:spPr>
          <a:xfrm>
            <a:off x="2171880" y="1828800"/>
            <a:ext cx="2133360" cy="2216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304920" y="42670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feel free to contact us if you have any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Mary.Greenlee@stewardschoo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Leslie.Kovach@stewardschoo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8:23:16Z</dcterms:created>
  <dc:creator>kovachl</dc:creator>
  <dc:description/>
  <cp:keywords/>
  <dc:language>en-US</dc:language>
  <cp:lastModifiedBy>Kovach, Leslie</cp:lastModifiedBy>
  <dcterms:modified xsi:type="dcterms:W3CDTF">2011-11-15T19:12:49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